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AF6-B296-4180-A1D5-5B031060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363-3682-4C82-A24A-769E0E4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41D-824A-468B-9BF8-7B1FAB07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6E8-889B-453E-8B11-5F6247D3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7BB-C68E-4B37-A17C-54337B63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AD8-DB13-4845-B377-1A8A533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AA6-40A6-458E-B9D7-FFE2D82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04B-E003-4912-8C79-1842DC97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EA7-B4B7-4D9E-A5ED-F5FDF213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D2C-DED3-4478-AE95-F8EBE8B0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D5F-D373-4C4D-B0D5-39EEE3F6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9BC-2DB5-4588-BB61-861D49D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DD08-793E-4CA6-B0E9-81B90CE49A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2833920" cy="437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611440" y="57135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0.04.1873 – 17.08.19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03640" y="62136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1:02:54Z</dcterms:created>
  <dc:creator>rena</dc:creator>
  <dc:description/>
  <dc:language>en-US</dc:language>
  <cp:lastModifiedBy>Andrzej</cp:lastModifiedBy>
  <dcterms:modified xsi:type="dcterms:W3CDTF">2013-07-20T06:20:33Z</dcterms:modified>
  <cp:revision>4</cp:revision>
  <dc:subject/>
  <dc:title>IGNACY MOŚCICKI</dc:title>
</cp:coreProperties>
</file>